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28D8-93E0-4244-853E-846F6F944862}" type="datetime">
              <a:rPr b="0" lang="en-US" sz="1200" spc="-1" strike="noStrike">
                <a:solidFill>
                  <a:srgbClr val="2f2b20"/>
                </a:solidFill>
                <a:latin typeface="Times New Roman"/>
              </a:rPr>
              <a:t>07/30/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A91B-8D31-4362-93B2-D5247C99E022}"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0493-4AA3-4522-A368-B40C404DF4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6C58-38A3-4CDC-93F7-86F753C9E7DC}"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0A78-1A6D-4F38-918A-F25D432DE18F}"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50CC-960E-4947-A58F-A4B48D4537A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D821-21F2-4553-9F05-9B8072ED8A48}"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B1E0-CFDF-4DC5-9698-583105468872}"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4DA4-AAF9-4F65-AE58-FF4961B942DB}"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29CB-8802-45E5-8E0E-8EAA05879ECB}"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BD03-50F9-48D0-BD92-BD8C5FA758B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2C35-EF1C-4CB1-B8E1-DCAC9EC36551}"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CD9D-F325-4B01-935F-134207BAD53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B1B4-56B8-46F1-AD32-54A44EC3AD23}"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C8A2-CA31-44BD-8B2B-57618EFCA1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BF32-4846-4921-A7BF-919F240F0273}"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EC0A-721F-4F0D-AFB9-3A8AC2C63BB2}"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1116-A811-47E6-AB44-DF5D22EBBA83}"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8E27-DA9F-4E76-A5B1-CC8AFEA9BDE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CE9F-537A-4B84-908B-EFC4435768A0}"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730F-8E67-4DB2-87B3-CCF927528B49}"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5CDA-F515-41F2-A309-BBCB1064F1AD}"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3DC3-9556-45D5-AA7D-00E73075A147}"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9D85-D9B4-4297-A330-4D77B855773A}"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3A0F-913A-4BA0-A71F-4430C4E1CA8D}"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7377-B3BC-4ADD-8E0F-410122C8C191}"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2048-9F5F-424D-9267-B98B83BDA74F}"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A622-B24F-40E3-945A-78EA88D1C878}" type="datetime">
              <a:rPr b="0" lang="en-US" sz="1200" spc="-1" strike="noStrike">
                <a:solidFill>
                  <a:srgbClr val="2f2b20"/>
                </a:solidFill>
                <a:latin typeface="Calibri"/>
              </a:rPr>
              <a:t>07/30/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A3200B8-34D4-468D-8953-D140285CE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AE5093-8EE8-4B6E-AEB2-21B8130D9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C5084A6-5AAA-4B81-8BEB-03401DFE7B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A83C13F-620D-4B65-8B87-170B68993A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D234C-C71C-41FA-B8F5-12A55BE14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80DE5-6534-431E-9526-7914D9910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6F49C-1D01-4BCA-B3EF-2C0EA2E09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40255-0EDB-4493-A50A-7EDC95373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E4BA0-05EC-4EFC-864B-E5C1CD732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EEE77-1FCC-4DE8-81F6-2FC578FEB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0D8BC-B14A-4190-893A-828A92353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ECBDB6-886C-42D3-8537-78C35DE20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66AD4-3287-4012-BBBA-DD3470372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F203-A377-42EF-97E2-AC0CEF598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7526A-A701-4A76-A827-0A2D9D28A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FB19F-592A-4CFF-9299-CBE5FB5DA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8B65A-0617-4FBC-865E-59C678BAE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B0E29FE-9AF6-4646-857C-36A340256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30B4C48-0A59-4CFD-AF03-E4BB70DB6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82C1D85-D130-4DE7-BEFA-4ECC756F0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8D48E26-3543-4796-AD98-CBE5B011C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408BA8-C03A-4572-8FD2-A9B144A20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1DD9DA-0CDF-4620-848D-A9F28C4DE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EF99B2-AF2B-4C35-8C8C-1D7E745B2F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6612-B8F3-4AA6-93DC-B95EF0DE9F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022C-AE6A-4185-AC9F-4C4B6A6F4DAF}" type="datetime">
              <a:rPr b="0" lang="en-US" sz="1200" spc="-1" strike="noStrike">
                <a:solidFill>
                  <a:srgbClr val="dcc718"/>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330F-A630-4173-A362-0717C54C5F3C}" type="datetime">
              <a:rPr b="0" lang="en-US" sz="1200" spc="-1" strike="noStrike">
                <a:solidFill>
                  <a:srgbClr val="dcc718"/>
                </a:solidFill>
                <a:latin typeface="Times New Roman"/>
              </a:rPr>
              <a:t>07/30/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0DD7-552E-4B25-B46A-F1949AA8BF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